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AD4-6F10-4F99-9E3C-C41A8230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722-EB78-4CE7-B12E-90C0838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A9C-1A5A-4C2E-8DB4-DE7D0BBC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CA5-11E8-4DAF-89D5-E39A993C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C2FE-D668-4539-ACDB-F9FEE8D0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50C3-946D-4AF2-889F-8BEEDAE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542-B432-4676-A0A1-05C4AA7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55A7-DF70-4EDF-B3E4-8150E119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599-7352-4413-BBD2-BD150EC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7B3-6419-4367-9FE7-7412B6C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B6D-3E60-4E9F-92E6-2EE6758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918-D5DF-471F-B0E3-2692E8B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255-77EC-4FB4-8024-FB4FAB5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56B5-2A99-41DB-88B4-ADB814D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6D6-2ACB-4C7E-8C6A-BFF2EE0A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A6A7-6823-428B-86A2-A3301BE6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67D-AA05-4657-9E45-8ABF3B80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E08-3209-4ED2-A7DE-0C32A8D0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865-7A4F-429A-A42D-7D615624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6AE-0531-4DFA-9767-E917F3F5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0E1-8E8F-47C3-ACFB-51B5F10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294-68D8-48C4-B026-D474F9D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5DE-867F-4ABC-B45E-11AE6F6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EA1-42DF-49BA-B079-2B3935C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4EF-0492-4801-809B-9EF34A8CC0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6C84-621C-4F85-AE0C-2E04AD3836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hs.needham.k12.ma.us/cur/bio96_97/P5/estuary/estuary.html" TargetMode="External"/><Relationship Id="rId2" Type="http://schemas.openxmlformats.org/officeDocument/2006/relationships/hyperlink" Target="http://www.gma.org/katahdin/estuary.html" TargetMode="External"/><Relationship Id="rId3" Type="http://schemas.openxmlformats.org/officeDocument/2006/relationships/hyperlink" Target="http://www.onr.navy.mil/Focus/ocean/habitats/estuaries1.htm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sers.rcn.com/jkimball.ma.ultranet/BiologyPages/F/Freshwater.html" TargetMode="External"/><Relationship Id="rId2" Type="http://schemas.openxmlformats.org/officeDocument/2006/relationships/hyperlink" Target="http://www.ucmp.berkeley.edu/exhibits/biomes/freshwater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riculum.calstatela.edu/courses/builders/lessons/less/biomes/tundra/tundraweb.html" TargetMode="External"/><Relationship Id="rId2" Type="http://schemas.openxmlformats.org/officeDocument/2006/relationships/hyperlink" Target="http://www.ucmp.berkeley.edu/exhibits/biomes/tundra.php" TargetMode="External"/><Relationship Id="rId3" Type="http://schemas.openxmlformats.org/officeDocument/2006/relationships/hyperlink" Target="http://www.blueplanetbiomes.org/tundra.htm" TargetMode="External"/><Relationship Id="rId4" Type="http://schemas.openxmlformats.org/officeDocument/2006/relationships/hyperlink" Target="http://www.runet.edu/~swoodwar/CLASSES/GEOG235/biomes/tundra/tundra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desert.htm" TargetMode="External"/><Relationship Id="rId2" Type="http://schemas.openxmlformats.org/officeDocument/2006/relationships/hyperlink" Target="http://www.ucmp.berkeley.edu/exhibits/biomes/deserts.php" TargetMode="External"/><Relationship Id="rId3" Type="http://schemas.openxmlformats.org/officeDocument/2006/relationships/hyperlink" Target="http://www.mbgnet.net/sets/desert/index.htm" TargetMode="External"/><Relationship Id="rId4" Type="http://schemas.openxmlformats.org/officeDocument/2006/relationships/hyperlink" Target="http://curriculum.calstatela.edu/courses/builders/lessons/less/biomes/desert/hot-desert-chain.htm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rainforest.htm" TargetMode="External"/><Relationship Id="rId2" Type="http://schemas.openxmlformats.org/officeDocument/2006/relationships/hyperlink" Target="http://www.runet.edu/~swoodwar/CLASSES/GEOG235/biomes/rainforest/rainfrst.html" TargetMode="External"/><Relationship Id="rId3" Type="http://schemas.openxmlformats.org/officeDocument/2006/relationships/hyperlink" Target="http://www.cotf.edu/ete/modules/msese/earthsysflr/rforest.html" TargetMode="External"/><Relationship Id="rId4" Type="http://schemas.openxmlformats.org/officeDocument/2006/relationships/hyperlink" Target="http://curriculum.calstatela.edu/courses/builders/lessons/less/biomes/rainforest/tropi_rain/rainweb.htm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deciduous_forest.htm" TargetMode="External"/><Relationship Id="rId2" Type="http://schemas.openxmlformats.org/officeDocument/2006/relationships/hyperlink" Target="http://ths.sps.lane.edu/biomes/deciduous3/deciduous3.html" TargetMode="External"/><Relationship Id="rId3" Type="http://schemas.openxmlformats.org/officeDocument/2006/relationships/hyperlink" Target="http://curriculum.calstatela.edu/courses/builders/lessons/less/biomes/deciduous/decfor.html" TargetMode="External"/><Relationship Id="rId4" Type="http://schemas.openxmlformats.org/officeDocument/2006/relationships/hyperlink" Target="http://curriculum.calstatela.edu/courses/builders/lessons/less/biomes/deciduous/decweb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rietta.edu/~biol/biomes/boreal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biomes/grassland/prairie.shtml" TargetMode="External"/><Relationship Id="rId2" Type="http://schemas.openxmlformats.org/officeDocument/2006/relationships/hyperlink" Target="http://www.blueplanetbiomes.org/prairie.htm" TargetMode="External"/><Relationship Id="rId3" Type="http://schemas.openxmlformats.org/officeDocument/2006/relationships/hyperlink" Target="http://www.worldbiomes.com/biomes_grassland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savanna.htm" TargetMode="External"/><Relationship Id="rId2" Type="http://schemas.openxmlformats.org/officeDocument/2006/relationships/hyperlink" Target="http://www.nceas.ucsb.edu/nceas-web/kids/biomes/savanna.htm" TargetMode="External"/><Relationship Id="rId3" Type="http://schemas.openxmlformats.org/officeDocument/2006/relationships/hyperlink" Target="http://www.worldbiomes.com/biomes_grassland.htm" TargetMode="External"/><Relationship Id="rId4" Type="http://schemas.openxmlformats.org/officeDocument/2006/relationships/hyperlink" Target="http://www.enchantedlearning.com/biomes/savanna/savanna.s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ncampus.richmond.edu/academics/education/projects/webunits/biomes/oceans.html" TargetMode="External"/><Relationship Id="rId2" Type="http://schemas.openxmlformats.org/officeDocument/2006/relationships/hyperlink" Target="http://www.teachnet-lab.org/ps101/bglasgold/oceanintro.htm" TargetMode="External"/><Relationship Id="rId3" Type="http://schemas.openxmlformats.org/officeDocument/2006/relationships/hyperlink" Target="http://www.enchantedlearning.com/coloring/oceanlife.shtml" TargetMode="External"/><Relationship Id="rId4" Type="http://schemas.openxmlformats.org/officeDocument/2006/relationships/hyperlink" Target="http://lib.colostate.edu/wildlife/ocean_biome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iome Research Link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tua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nhs.needham.k12.ma.us/cur/bio96_97/P5/estuary/estuary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gma.org/katahdin/estuary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onr.navy.mil/Focus/ocean/habitats/estuaries1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ttp://www.microbiologyprocedure.com/microbial-ecology-of-different-ecosystems/estuarine-ecosystem.htm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esh Wa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users.rcn.com/jkimball.ma.ultranet/BiologyPages/F/Freshwater.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kids.nceas.ucsb.edu/biomes/freshwater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freshwater.php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curriculum.calstatela.edu/courses/builders/lessons/less/biomes/tundra/tundraweb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tundra.ph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blueplanetbiomes.org/tundra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runet.edu/~swoodwar/CLASSES/GEOG235/biomes/tundra/tundra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desert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ucmp.berkeley.edu/exhibits/biomes/deserts.ph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mbgnet.net/sets/desert/index.ht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desert/hot-desert-chain.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opical Rain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rainforest.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runet.edu/~swoodwar/CLASSES/GEOG235/biomes/rainforest/rainfrst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cotf.edu/ete/modules/msese/earthsysflr/rforest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rainforest/tropi_rain/rainweb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ciduous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deciduous_forest.ht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ths.sps.lane.edu/biomes/deciduous3/deciduous3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curriculum.calstatela.edu/courses/builders/lessons/less/biomes/deciduous/decfor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curriculum.calstatela.edu/courses/builders/lessons/less/biomes/deciduous/decweb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eal Fo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marietta.edu/~biol/biomes/boreal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www.runet.edu/~swoodwar/CLASSES/GEOG235/biomes/taiga/taiga.htm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ttp://www.ucmp.berkeley.edu/exhibits/biomes/forests.php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ssland – Prairi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nchantedlearning.com/biomes/grassland/prairie.s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blueplanetbiomes.org/prairie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worldbiomes.com/biomes_grassland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ss Land - Savanna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blueplanetbiomes.org/savanna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nceas.ucsb.edu/nceas-web/kids/biomes/savanna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worldbiomes.com/biomes_grassland.htm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www.enchantedlearning.com/biomes/savanna/savanna.shtml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oncampus.richmond.edu/academics/education/projects/webunits/biomes/oceans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www.teachnet-lab.org/ps101/bglasgold/oceanintro.htm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www.enchantedlearning.com/coloring/oceanlife.s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lib.colostate.edu/wildlife/ocean_biome.html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4:55:25Z</dcterms:created>
  <dc:creator>Rebecca Ellis</dc:creator>
  <dc:description/>
  <dc:language>en-US</dc:language>
  <cp:lastModifiedBy>ccps</cp:lastModifiedBy>
  <dcterms:modified xsi:type="dcterms:W3CDTF">2009-04-24T18:48:57Z</dcterms:modified>
  <cp:revision>7</cp:revision>
  <dc:subject/>
  <dc:title>Biome Research Links</dc:title>
</cp:coreProperties>
</file>